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E4AE-0571-4901-A029-D83EDB6D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4550-4FA8-4147-AC93-8A243F9E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CA1A-FBEE-4EC9-8DA1-155D425A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12CA-EB1A-4016-8B61-D4E357BF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E2DA-728E-4D2C-A4CA-CD10428D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3DF5-C093-4A73-A08D-DB85DCB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49B5-265F-4F78-B723-52E51C5D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200D-F899-44CC-B2DC-54AB3EA4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E11F-BE16-464A-80B4-13C903C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ABD4-5497-426E-A070-0E55C3A9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1AB0-ECF4-4F4C-88C9-809759D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6F26-D575-4FDA-8291-9D15805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548A-C95D-4EC5-B459-4E5AABA2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C5E5-B3C7-4896-8661-BD3CB49A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9B76-68B5-4E7D-AC1C-D5FD0F5A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CFB-13D9-4E2C-8934-3101644D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7E20-3384-4201-84F4-210BF011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B003-0EAF-4687-96D2-42656E6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1F75-2CEF-4BF3-8BAA-BC9C4A5A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A4A2-62F2-449B-AD19-5C1EB9D6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6372-0DC0-43B6-8AF7-DF84C7B0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38A8-F15A-446A-9F31-FF035C0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FCA9-4FFD-44A0-9901-DB600AC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42E7-F026-44D4-AD80-0FFC9C2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C564-904C-4B2E-9FBB-149931D1DE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D52E-861A-4CF4-B37D-3A823EDE19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pomo.com/ruskolan/images/evg-0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24000" y="1413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Методы изучения генетики человека: близнецовый мет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6920" y="40464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24360" y="6237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3284640"/>
            <a:ext cx="36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1169651752_together02"/>
          <p:cNvPicPr/>
          <p:nvPr/>
        </p:nvPicPr>
        <p:blipFill>
          <a:blip r:embed="rId1"/>
          <a:stretch/>
        </p:blipFill>
        <p:spPr>
          <a:xfrm>
            <a:off x="250920" y="393372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168632688_baby09"/>
          <p:cNvPicPr/>
          <p:nvPr/>
        </p:nvPicPr>
        <p:blipFill>
          <a:blip r:embed="rId2"/>
          <a:stretch/>
        </p:blipFill>
        <p:spPr>
          <a:xfrm>
            <a:off x="2928960" y="450072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169578881_130306elgortsm"/>
          <p:cNvPicPr/>
          <p:nvPr/>
        </p:nvPicPr>
        <p:blipFill>
          <a:blip r:embed="rId3"/>
          <a:stretch/>
        </p:blipFill>
        <p:spPr>
          <a:xfrm>
            <a:off x="5429160" y="3929040"/>
            <a:ext cx="1785960" cy="244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сходства (конкордантность) по ряду заболеваний у близнецов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80360" cy="3816360"/>
        </p:xfrm>
        <a:graphic>
          <a:graphicData uri="http://schemas.openxmlformats.org/drawingml/2006/table">
            <a:tbl>
              <a:tblPr/>
              <a:tblGrid>
                <a:gridCol w="3189240"/>
                <a:gridCol w="1562040"/>
                <a:gridCol w="1663920"/>
                <a:gridCol w="1865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, контролируемые большим числом генов и зависящие от негенетическ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(вероятность) появления сходств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упность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98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ормула Хольц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975600"/>
            <a:ext cx="896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оэффицент наследственности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днояйцевые близнецы (конкордантность ОБ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двуяйцевые близнецы (конкордантность ДБ)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1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полностью определяется наследственным компонент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0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влиянием сред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близкий к 0,5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примерно одинаковым влиянием наследственности и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массе тела составляет 80%, а дизиготных – 30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80%  - 30%) / (100% - 30%)= 0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71, то в формировании признака большую роль играет геноти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росту составляет 65%, а дизиготных – 34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65%  - 34%) / (100% - 34%)= 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20, то в формировании признака большую роль играет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учить сущность и значение одного из основных методов антропогенетики: близнецов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учиться решать задачи с использованием формулы Хольцингера  (для тех, кто обучается на повыше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69444741_hku"/>
          <p:cNvPicPr/>
          <p:nvPr/>
        </p:nvPicPr>
        <p:blipFill>
          <a:blip r:embed="rId1"/>
          <a:stretch/>
        </p:blipFill>
        <p:spPr>
          <a:xfrm>
            <a:off x="5364000" y="4221000"/>
            <a:ext cx="3600720" cy="2473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для обсуждения 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е биологическим понятиям: близнецы, дизиготные и монозиготные близнецы, сиамские близнецы, конкордантность, дискорд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чем заключается близнецовый метод исследования генетики человека? Кто впервые применил этот метод для изучения генетики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во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ового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гене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rticle-1288391-0A2164C3000005DC-372_634x372_popup"/>
          <p:cNvPicPr/>
          <p:nvPr/>
        </p:nvPicPr>
        <p:blipFill>
          <a:blip r:embed="rId1"/>
          <a:stretch/>
        </p:blipFill>
        <p:spPr>
          <a:xfrm>
            <a:off x="4286160" y="3786120"/>
            <a:ext cx="4465800" cy="2824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нят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ы – одновременно родившие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иготные близнецы – развиваются из 2-х разных 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зиготные близнецы - развиваются из 1 яйце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амские близнецы – сросшиеся близне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ордантность – наличие признака у обоих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рдантность – наличие признака и одного из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192032266_kopie_e4"/>
          <p:cNvPicPr/>
          <p:nvPr/>
        </p:nvPicPr>
        <p:blipFill>
          <a:blip r:embed="rId1"/>
          <a:stretch/>
        </p:blipFill>
        <p:spPr>
          <a:xfrm>
            <a:off x="7510320" y="4981680"/>
            <a:ext cx="163368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6siam"/>
          <p:cNvPicPr/>
          <p:nvPr/>
        </p:nvPicPr>
        <p:blipFill>
          <a:blip r:embed="rId2"/>
          <a:stretch/>
        </p:blipFill>
        <p:spPr>
          <a:xfrm>
            <a:off x="5715000" y="5000760"/>
            <a:ext cx="1666800" cy="185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25294365"/>
          <p:cNvPicPr/>
          <p:nvPr/>
        </p:nvPicPr>
        <p:blipFill>
          <a:blip r:embed="rId3"/>
          <a:stretch/>
        </p:blipFill>
        <p:spPr>
          <a:xfrm>
            <a:off x="4071960" y="5070600"/>
            <a:ext cx="1428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7159055_1"/>
          <p:cNvPicPr/>
          <p:nvPr/>
        </p:nvPicPr>
        <p:blipFill>
          <a:blip r:embed="rId1"/>
          <a:stretch/>
        </p:blipFill>
        <p:spPr>
          <a:xfrm>
            <a:off x="250920" y="1176480"/>
            <a:ext cx="4321080" cy="4051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24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нозиготные близнецы (одно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79_3"/>
          <p:cNvPicPr/>
          <p:nvPr/>
        </p:nvPicPr>
        <p:blipFill>
          <a:blip r:embed="rId2"/>
          <a:stretch/>
        </p:blipFill>
        <p:spPr>
          <a:xfrm>
            <a:off x="507672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79_3"/>
          <p:cNvPicPr/>
          <p:nvPr/>
        </p:nvPicPr>
        <p:blipFill>
          <a:blip r:embed="rId3"/>
          <a:stretch/>
        </p:blipFill>
        <p:spPr>
          <a:xfrm>
            <a:off x="4886280" y="1714680"/>
            <a:ext cx="399276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42648442_2-twins"/>
          <p:cNvPicPr/>
          <p:nvPr/>
        </p:nvPicPr>
        <p:blipFill>
          <a:blip r:embed="rId1"/>
          <a:stretch/>
        </p:blipFill>
        <p:spPr>
          <a:xfrm>
            <a:off x="428760" y="1143000"/>
            <a:ext cx="3998880" cy="46101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1" name="Rectangle 8"/>
          <p:cNvSpPr/>
          <p:nvPr/>
        </p:nvSpPr>
        <p:spPr>
          <a:xfrm>
            <a:off x="357120" y="5857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зиготные близнецы (дву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79_4"/>
          <p:cNvPicPr/>
          <p:nvPr/>
        </p:nvPicPr>
        <p:blipFill>
          <a:blip r:embed="rId2"/>
          <a:stretch/>
        </p:blipFill>
        <p:spPr>
          <a:xfrm>
            <a:off x="4643280" y="1928880"/>
            <a:ext cx="423864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3680" y="999720"/>
            <a:ext cx="3543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Гальтон – основатель близнецового метод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www.xpomo.com/ruskolan/images/evg-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785880"/>
            <a:ext cx="436536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 позволяет у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лияние среды на реализацию гено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клад среды и генотипа в развитие данного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328a501ea5343129228471263961538"/>
          <p:cNvPicPr/>
          <p:nvPr/>
        </p:nvPicPr>
        <p:blipFill>
          <a:blip r:embed="rId2"/>
          <a:stretch/>
        </p:blipFill>
        <p:spPr>
          <a:xfrm>
            <a:off x="1476360" y="2492280"/>
            <a:ext cx="5432400" cy="40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различия (дискордантность) по ряду нейтральных признаков у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341360"/>
          <a:ext cx="8642160" cy="5303880"/>
        </p:xfrm>
        <a:graphic>
          <a:graphicData uri="http://schemas.openxmlformats.org/drawingml/2006/table">
            <a:tbl>
              <a:tblPr/>
              <a:tblGrid>
                <a:gridCol w="3517920"/>
                <a:gridCol w="1571400"/>
                <a:gridCol w="1676520"/>
                <a:gridCol w="1876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ки, контролируемые небольшим числом г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 (вероятность) появления различ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у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пиллярные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химически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0 до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бров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г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7:50Z</dcterms:created>
  <dc:creator>Дороненкова Н.Ю.</dc:creator>
  <dc:description/>
  <dc:language>en-US</dc:language>
  <cp:lastModifiedBy>Admin</cp:lastModifiedBy>
  <dcterms:modified xsi:type="dcterms:W3CDTF">2012-10-23T18:46:44Z</dcterms:modified>
  <cp:revision>38</cp:revision>
  <dc:subject/>
  <dc:title>Урок Методы генетики человека:</dc:title>
</cp:coreProperties>
</file>